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3.png" ContentType="image/png"/>
  <Override PartName="/ppt/media/image3.wmf" ContentType="image/x-wmf"/>
  <Override PartName="/ppt/media/image44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2.gif" ContentType="image/gif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A6EC7-1640-4D2B-8E2D-DD5C187B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F8DBF-830D-4D93-8AC4-4C37CDE2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9ED4F-D5B5-42FE-9F37-22AE9A90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32D7F-D4B1-4FF8-AE21-7F8D60E7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DB21-20CB-4568-B036-14EDD490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642E-FB1E-4732-80DE-D88D20F0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2E9C-75C6-4700-8ACB-BD4BBFF1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829E-3AD8-4AD0-ACEE-154C3F3B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B3A5-6440-4FA4-9AF4-D062437E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5F42-72DB-4A5B-9D78-251B0C6B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021D-F59A-426C-AA67-233E9E3B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141CB-F9D8-4352-9B9F-3CA719D9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2228-BEA0-4F37-A39B-E284464F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310B-B6F4-4CD9-88D8-599DF778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E0A5-2F6F-4906-B554-3B804E87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4D6E-7F51-4183-96AD-12442527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30F5-5EEA-4CBE-8D43-65409AC8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D6B51-B952-43D6-8F3C-A2F5B7A9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EF449-2825-485C-8A51-738DAE85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E88EF-7384-4B7E-954F-5A4503DD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78D75-AD84-4806-BF17-E32119BC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4F810-225F-463A-8C26-1821AA69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926FE-2991-4971-AB26-F133EC20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35DEF-C440-4273-A4DD-3EFE788D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8B2D-5DE9-4010-BBA3-FF29A77F05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5B35-6E90-405F-8CDD-67E26562FE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2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4365720"/>
            <a:ext cx="788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7d"/>
                </a:solidFill>
                <a:latin typeface="Arial"/>
              </a:rPr>
              <a:t>Windows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780000" y="177336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260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Arial"/>
              </a:rPr>
              <a:t>Операционная систе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cc"/>
                </a:solidFill>
                <a:latin typeface="Arial"/>
              </a:rPr>
              <a:t>МНОГОЗАДАЧН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Решаем задачи с помощью нескольких про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4427640" cy="31525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572000" y="1125360"/>
            <a:ext cx="3851280" cy="3194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763640" y="3068640"/>
            <a:ext cx="2467080" cy="2476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5364000" y="2637000"/>
            <a:ext cx="35053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195640" y="981000"/>
            <a:ext cx="4516200" cy="46087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cc"/>
                </a:solidFill>
                <a:latin typeface="Arial"/>
              </a:rPr>
              <a:t>ОКОНН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Любая программа или документ открываются в «окн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195640" y="1773360"/>
            <a:ext cx="4427280" cy="31525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2195640" y="1268280"/>
            <a:ext cx="4390920" cy="4032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411280" y="1413000"/>
            <a:ext cx="4016520" cy="4032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2340000" y="1484280"/>
            <a:ext cx="417672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3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3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8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9000"/>
                            </p:stCondLst>
                            <p:childTnLst>
                              <p:par>
                                <p:cTn id="30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" dur="3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7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3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8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272880"/>
            <a:ext cx="8893080" cy="66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Интерфе́йс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7d"/>
                </a:solidFill>
                <a:latin typeface="Arial"/>
              </a:rPr>
              <a:t>множество средств и методов взаимодействия между объектам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(стиль общения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Графический интерфейс Window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 Unicode MS"/>
              </a:rPr>
              <a:t>позволяет осуществлять общение человека с компьютером в форме диалога с использованием  различных меню и элементов управления</a:t>
            </a: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7d"/>
                </a:solidFill>
                <a:latin typeface="Times New Roman"/>
              </a:rPr>
              <a:t>(диалоговых панелей, кнопок и так дале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3419640" cy="31464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219720" y="3573360"/>
            <a:ext cx="2924280" cy="3284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3203640" y="4508640"/>
            <a:ext cx="3095640" cy="14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Элементы графического интерфейса Window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634920" y="1989000"/>
            <a:ext cx="4753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Рабочий  ст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Зна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Ярлы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Фай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Пап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Панель зада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Ок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292428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3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3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9000"/>
                            </p:stCondLst>
                            <p:childTnLst>
                              <p:par>
                                <p:cTn id="3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3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3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3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3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3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3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3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3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rcRect l="0" t="0" r="0" b="8514"/>
          <a:stretch/>
        </p:blipFill>
        <p:spPr>
          <a:xfrm>
            <a:off x="1476360" y="1125360"/>
            <a:ext cx="6697800" cy="54914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Рабочий сто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86756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Значки</a:t>
            </a:r>
            <a:br>
              <a:rPr sz="6600"/>
            </a:b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5400" spc="-1" strike="noStrike">
                <a:solidFill>
                  <a:srgbClr val="ff0000"/>
                </a:solidFill>
                <a:latin typeface="Arial"/>
              </a:rPr>
              <a:t>(пиктограммы или иконки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7993080" cy="18003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95280" y="4937040"/>
            <a:ext cx="820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обеспечивают быстрый доступ к различным объектам операционной системы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Ярлы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439272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ЗНА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734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Ярлык – это путь к программ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43280" y="549360"/>
            <a:ext cx="450072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ЯРЛЫ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4149" r="0" b="4202"/>
          <a:stretch/>
        </p:blipFill>
        <p:spPr>
          <a:xfrm>
            <a:off x="0" y="1484280"/>
            <a:ext cx="2016000" cy="1847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1800360" cy="1673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332000" y="3573360"/>
            <a:ext cx="1800000" cy="1703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4643280" y="1628640"/>
            <a:ext cx="4500720" cy="18338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5940360" y="3573360"/>
            <a:ext cx="187344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Файлы   и   пап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332000" y="1181160"/>
            <a:ext cx="641988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1413000"/>
            <a:ext cx="860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- пакет программ, обеспечивающих целостное функционирование компьютера и его диалог с пользователе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49360"/>
            <a:ext cx="85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Операционная систе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5905440" cy="1592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rcRect l="0" t="2773" r="0" b="3655"/>
          <a:stretch/>
        </p:blipFill>
        <p:spPr>
          <a:xfrm>
            <a:off x="6084720" y="2205000"/>
            <a:ext cx="3313440" cy="244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Файлы   и   пап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5905800" cy="15922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Файл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378936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Файл –это данные, имеющие имя и хранящиеся во внешней памяти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Пап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443700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Служат для группировки объек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0" t="2773" r="0" b="3655"/>
          <a:stretch/>
        </p:blipFill>
        <p:spPr>
          <a:xfrm>
            <a:off x="2700360" y="1628640"/>
            <a:ext cx="3313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496360" cy="5519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68360" y="260280"/>
            <a:ext cx="82296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Панель зада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3645000"/>
            <a:ext cx="576000" cy="2736720"/>
          </a:xfrm>
          <a:prstGeom prst="downArrow">
            <a:avLst>
              <a:gd name="adj1" fmla="val 50000"/>
              <a:gd name="adj2" fmla="val 1187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Панель зада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1268280"/>
          <a:ext cx="9144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2133720"/>
            <a:ext cx="3132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Кнопка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 «Пус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16360" y="1773360"/>
            <a:ext cx="3240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Кнопки открыт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програм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4508640"/>
            <a:ext cx="172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Языковая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ан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00360" y="4221000"/>
            <a:ext cx="3457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Дополн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устр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236000" y="4365720"/>
            <a:ext cx="158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Цифровые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час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0" y="3357720"/>
            <a:ext cx="9540720" cy="5428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1619280" y="5927760"/>
            <a:ext cx="6194520" cy="6350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 flipH="1">
            <a:off x="3634920" y="2637000"/>
            <a:ext cx="1368360" cy="720720"/>
          </a:xfrm>
          <a:prstGeom prst="line">
            <a:avLst/>
          </a:prstGeom>
          <a:ln w="7632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740720" y="2565360"/>
            <a:ext cx="863640" cy="719280"/>
          </a:xfrm>
          <a:prstGeom prst="line">
            <a:avLst/>
          </a:prstGeom>
          <a:ln w="7632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5867280" y="3068640"/>
            <a:ext cx="216000" cy="360360"/>
          </a:xfrm>
          <a:prstGeom prst="line">
            <a:avLst/>
          </a:prstGeom>
          <a:ln w="7632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42920" y="5373720"/>
            <a:ext cx="504720" cy="503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7885080" y="5300640"/>
            <a:ext cx="504720" cy="50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00720" y="5229360"/>
            <a:ext cx="0" cy="504720"/>
          </a:xfrm>
          <a:prstGeom prst="line">
            <a:avLst/>
          </a:prstGeom>
          <a:ln w="7632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900000" y="2781360"/>
            <a:ext cx="287280" cy="43164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68000" y="1412640"/>
            <a:ext cx="424836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Виды мен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41036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684360" y="2276640"/>
            <a:ext cx="4248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Горизонтальное мен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6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4032360" cy="280800"/>
          </a:xfrm>
          <a:prstGeom prst="rect">
            <a:avLst/>
          </a:prstGeom>
          <a:ln w="0">
            <a:noFill/>
          </a:ln>
        </p:spPr>
      </p:pic>
      <p:grpSp>
        <p:nvGrpSpPr>
          <p:cNvPr id="249" name="Group 19"/>
          <p:cNvGrpSpPr/>
          <p:nvPr/>
        </p:nvGrpSpPr>
        <p:grpSpPr>
          <a:xfrm>
            <a:off x="684360" y="3213000"/>
            <a:ext cx="2089080" cy="1800000"/>
            <a:chOff x="684360" y="3213000"/>
            <a:chExt cx="2089080" cy="1800000"/>
          </a:xfrm>
        </p:grpSpPr>
        <p:sp>
          <p:nvSpPr>
            <p:cNvPr id="250" name="Rectangle 17"/>
            <p:cNvSpPr/>
            <p:nvPr/>
          </p:nvSpPr>
          <p:spPr>
            <a:xfrm>
              <a:off x="684360" y="3213000"/>
              <a:ext cx="2089080" cy="18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Меню управ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Picture 18" descr=""/>
            <p:cNvPicPr/>
            <p:nvPr/>
          </p:nvPicPr>
          <p:blipFill>
            <a:blip r:embed="rId2"/>
            <a:stretch/>
          </p:blipFill>
          <p:spPr>
            <a:xfrm>
              <a:off x="828720" y="3500280"/>
              <a:ext cx="1638360" cy="12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2" name="Group 22"/>
          <p:cNvGrpSpPr/>
          <p:nvPr/>
        </p:nvGrpSpPr>
        <p:grpSpPr>
          <a:xfrm>
            <a:off x="2916360" y="3213000"/>
            <a:ext cx="2447640" cy="2447640"/>
            <a:chOff x="2916360" y="3213000"/>
            <a:chExt cx="2447640" cy="2447640"/>
          </a:xfrm>
        </p:grpSpPr>
        <p:sp>
          <p:nvSpPr>
            <p:cNvPr id="253" name="Rectangle 20"/>
            <p:cNvSpPr/>
            <p:nvPr/>
          </p:nvSpPr>
          <p:spPr>
            <a:xfrm>
              <a:off x="2916360" y="3213000"/>
              <a:ext cx="2447640" cy="24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Каскадное мен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Picture 21" descr=""/>
            <p:cNvPicPr/>
            <p:nvPr/>
          </p:nvPicPr>
          <p:blipFill>
            <a:blip r:embed="rId3"/>
            <a:stretch/>
          </p:blipFill>
          <p:spPr>
            <a:xfrm>
              <a:off x="3060720" y="3571560"/>
              <a:ext cx="192384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Rectangle 24"/>
          <p:cNvSpPr/>
          <p:nvPr/>
        </p:nvSpPr>
        <p:spPr>
          <a:xfrm>
            <a:off x="5508720" y="2205000"/>
            <a:ext cx="316872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Контекстное мен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5" descr=""/>
          <p:cNvPicPr/>
          <p:nvPr/>
        </p:nvPicPr>
        <p:blipFill>
          <a:blip r:embed="rId4"/>
          <a:stretch/>
        </p:blipFill>
        <p:spPr>
          <a:xfrm>
            <a:off x="5724360" y="2565360"/>
            <a:ext cx="2837160" cy="3168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0" y="333360"/>
            <a:ext cx="90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Меню – это список объектов, из которого можно сделать выбо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Кнопка Пуск</a:t>
            </a:r>
            <a:br>
              <a:rPr sz="6000"/>
            </a:b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( главное меню) – доступ ко всем установленным программам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rcRect l="0" t="0" r="0" b="15856"/>
          <a:stretch/>
        </p:blipFill>
        <p:spPr>
          <a:xfrm>
            <a:off x="2843280" y="2492280"/>
            <a:ext cx="3452760" cy="43657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916360" y="2421000"/>
            <a:ext cx="33112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4427640" cy="31528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5292720" y="1341360"/>
            <a:ext cx="3851280" cy="3194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1187280" y="4381560"/>
            <a:ext cx="2467080" cy="24764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4788000" y="4087800"/>
            <a:ext cx="3504960" cy="2770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68360" y="333360"/>
            <a:ext cx="82296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Окн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95280" y="1699920"/>
            <a:ext cx="8229600" cy="3824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6" descr=""/>
          <p:cNvPicPr/>
          <p:nvPr/>
        </p:nvPicPr>
        <p:blipFill>
          <a:blip r:embed="rId1"/>
          <a:stretch/>
        </p:blipFill>
        <p:spPr>
          <a:xfrm>
            <a:off x="539640" y="1892160"/>
            <a:ext cx="4608720" cy="319572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268" name="Rectangle 9"/>
          <p:cNvSpPr/>
          <p:nvPr/>
        </p:nvSpPr>
        <p:spPr>
          <a:xfrm>
            <a:off x="539640" y="2060640"/>
            <a:ext cx="4608720" cy="2881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0"/>
          <p:cNvSpPr/>
          <p:nvPr/>
        </p:nvSpPr>
        <p:spPr>
          <a:xfrm>
            <a:off x="468360" y="5734080"/>
            <a:ext cx="15080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28527"/>
              <a:gd name="adj5" fmla="val -99481"/>
              <a:gd name="adj6" fmla="val 152842"/>
            </a:avLst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но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1"/>
          <p:cNvSpPr/>
          <p:nvPr/>
        </p:nvSpPr>
        <p:spPr>
          <a:xfrm>
            <a:off x="3995640" y="5734080"/>
            <a:ext cx="1722600" cy="649080"/>
          </a:xfrm>
          <a:prstGeom prst="borderCallout2">
            <a:avLst>
              <a:gd name="adj1" fmla="val 18750"/>
              <a:gd name="adj2" fmla="val -8333"/>
              <a:gd name="adj3" fmla="val 17601"/>
              <a:gd name="adj4" fmla="val -25347"/>
              <a:gd name="adj5" fmla="val -122736"/>
              <a:gd name="adj6" fmla="val -46268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но доку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2" descr=""/>
          <p:cNvPicPr/>
          <p:nvPr/>
        </p:nvPicPr>
        <p:blipFill>
          <a:blip r:embed="rId2"/>
          <a:stretch/>
        </p:blipFill>
        <p:spPr>
          <a:xfrm>
            <a:off x="5508720" y="1844640"/>
            <a:ext cx="2652480" cy="288468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13"/>
          <p:cNvSpPr/>
          <p:nvPr/>
        </p:nvSpPr>
        <p:spPr>
          <a:xfrm>
            <a:off x="6948360" y="5734080"/>
            <a:ext cx="1722600" cy="649080"/>
          </a:xfrm>
          <a:prstGeom prst="borderCallout2">
            <a:avLst>
              <a:gd name="adj1" fmla="val 18750"/>
              <a:gd name="adj2" fmla="val -8333"/>
              <a:gd name="adj3" fmla="val 17601"/>
              <a:gd name="adj4" fmla="val -15300"/>
              <a:gd name="adj5" fmla="val -165527"/>
              <a:gd name="adj6" fmla="val -26268"/>
            </a:avLst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алоговое ок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476280"/>
            <a:ext cx="482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Виды око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9" descr="com"/>
          <p:cNvPicPr/>
          <p:nvPr/>
        </p:nvPicPr>
        <p:blipFill>
          <a:blip r:embed="rId1"/>
          <a:stretch/>
        </p:blipFill>
        <p:spPr>
          <a:xfrm>
            <a:off x="5219640" y="1989000"/>
            <a:ext cx="3757680" cy="381816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1"/>
          <p:cNvSpPr/>
          <p:nvPr/>
        </p:nvSpPr>
        <p:spPr>
          <a:xfrm>
            <a:off x="6156360" y="2708280"/>
            <a:ext cx="1871640" cy="15843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3300"/>
                </a:solidFill>
                <a:latin typeface="Arial Black"/>
              </a:rPr>
              <a:t>Действия над окнами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762440" cy="3969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кр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орач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ктив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ме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менение раз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кр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0" descr="WINDOWS"/>
          <p:cNvPicPr/>
          <p:nvPr/>
        </p:nvPicPr>
        <p:blipFill>
          <a:blip r:embed="rId8"/>
          <a:stretch/>
        </p:blipFill>
        <p:spPr>
          <a:xfrm>
            <a:off x="6516720" y="2949480"/>
            <a:ext cx="122400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Операционные системы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 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3.1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3.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5\98\2000\ХР\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ta\S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3413" t="0" r="11280" b="0"/>
          <a:stretch/>
        </p:blipFill>
        <p:spPr>
          <a:xfrm>
            <a:off x="4788000" y="3429000"/>
            <a:ext cx="37465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4752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Строка заголов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Кнопка сворачивания окна 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Кнопка восстановления окна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Кнопка закрытия окна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Строка горизонтального меню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.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Панели инструментов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– содержат кнопки, вызывающие наиболее часто употребляемые команд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.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Полосы прокрутки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– позволяют просматривать содержимое окн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.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Рабочее поле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– пространство для размещения объектов (текста, рисунков, значков и пр.) и работы с ним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.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Панель ссылок на типичные задачи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– область, где находятся текстовые ссылки, служащие для перемещения или копирования файлов, для перехода в другие папки на компьютере или для выбора системных задач из спис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.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Движок прокрут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1.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Кнопка меню управ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2.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Рамка ок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826560" y="333000"/>
            <a:ext cx="7581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 Black"/>
              </a:rPr>
              <a:t>Состав ок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63"/>
          <p:cNvGrpSpPr/>
          <p:nvPr/>
        </p:nvGrpSpPr>
        <p:grpSpPr>
          <a:xfrm>
            <a:off x="5003640" y="2060640"/>
            <a:ext cx="4140360" cy="3673440"/>
            <a:chOff x="5003640" y="2060640"/>
            <a:chExt cx="4140360" cy="3673440"/>
          </a:xfrm>
        </p:grpSpPr>
        <p:grpSp>
          <p:nvGrpSpPr>
            <p:cNvPr id="282" name="Group 59"/>
            <p:cNvGrpSpPr/>
            <p:nvPr/>
          </p:nvGrpSpPr>
          <p:grpSpPr>
            <a:xfrm>
              <a:off x="5003640" y="2060640"/>
              <a:ext cx="4140360" cy="3168720"/>
              <a:chOff x="5003640" y="2060640"/>
              <a:chExt cx="4140360" cy="3168720"/>
            </a:xfrm>
          </p:grpSpPr>
          <p:pic>
            <p:nvPicPr>
              <p:cNvPr id="283" name="Picture 44" descr=""/>
              <p:cNvPicPr/>
              <p:nvPr/>
            </p:nvPicPr>
            <p:blipFill>
              <a:blip r:embed="rId1"/>
              <a:stretch/>
            </p:blipFill>
            <p:spPr>
              <a:xfrm>
                <a:off x="5003640" y="2519280"/>
                <a:ext cx="3667320" cy="271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AutoShape 45"/>
              <p:cNvSpPr/>
              <p:nvPr/>
            </p:nvSpPr>
            <p:spPr>
              <a:xfrm>
                <a:off x="6896160" y="2174760"/>
                <a:ext cx="236520" cy="230400"/>
              </a:xfr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AutoShape 46"/>
              <p:cNvSpPr/>
              <p:nvPr/>
            </p:nvSpPr>
            <p:spPr>
              <a:xfrm>
                <a:off x="5508720" y="2133720"/>
                <a:ext cx="503280" cy="287280"/>
              </a:xfr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AutoShape 47"/>
              <p:cNvSpPr/>
              <p:nvPr/>
            </p:nvSpPr>
            <p:spPr>
              <a:xfrm>
                <a:off x="7311960" y="2206800"/>
                <a:ext cx="236520" cy="230040"/>
              </a:xfr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48"/>
              <p:cNvSpPr/>
              <p:nvPr/>
            </p:nvSpPr>
            <p:spPr>
              <a:xfrm>
                <a:off x="7812000" y="2060640"/>
                <a:ext cx="316080" cy="288720"/>
              </a:xfr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49"/>
              <p:cNvSpPr/>
              <p:nvPr/>
            </p:nvSpPr>
            <p:spPr>
              <a:xfrm>
                <a:off x="8820000" y="2174760"/>
                <a:ext cx="324000" cy="246240"/>
              </a:xfr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50"/>
              <p:cNvSpPr/>
              <p:nvPr/>
            </p:nvSpPr>
            <p:spPr>
              <a:xfrm>
                <a:off x="6068880" y="2174760"/>
                <a:ext cx="354240" cy="230400"/>
              </a:xfr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51"/>
              <p:cNvSpPr/>
              <p:nvPr/>
            </p:nvSpPr>
            <p:spPr>
              <a:xfrm>
                <a:off x="8788320" y="2979720"/>
                <a:ext cx="355680" cy="23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52"/>
              <p:cNvSpPr/>
              <p:nvPr/>
            </p:nvSpPr>
            <p:spPr>
              <a:xfrm>
                <a:off x="8078760" y="3094200"/>
                <a:ext cx="70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53"/>
              <p:cNvSpPr/>
              <p:nvPr/>
            </p:nvSpPr>
            <p:spPr>
              <a:xfrm flipH="1">
                <a:off x="8434080" y="3094200"/>
                <a:ext cx="353880" cy="23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AutoShape 54"/>
              <p:cNvSpPr/>
              <p:nvPr/>
            </p:nvSpPr>
            <p:spPr>
              <a:xfrm>
                <a:off x="7885080" y="3706920"/>
                <a:ext cx="43020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34432" y="2068"/>
                    </a:moveTo>
                    <a:lnTo>
                      <a:pt x="25426" y="8272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AutoShape 55"/>
              <p:cNvSpPr/>
              <p:nvPr/>
            </p:nvSpPr>
            <p:spPr>
              <a:xfrm flipH="1">
                <a:off x="7740000" y="4146480"/>
                <a:ext cx="250920" cy="271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44430" y="4294"/>
                    </a:moveTo>
                    <a:lnTo>
                      <a:pt x="28162" y="909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AutoShape 56"/>
              <p:cNvSpPr/>
              <p:nvPr/>
            </p:nvSpPr>
            <p:spPr>
              <a:xfrm flipH="1">
                <a:off x="7956000" y="4521240"/>
                <a:ext cx="299880" cy="27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-24115" y="744"/>
                    </a:moveTo>
                    <a:lnTo>
                      <a:pt x="-5486" y="8937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AutoShape 57"/>
              <p:cNvSpPr/>
              <p:nvPr/>
            </p:nvSpPr>
            <p:spPr>
              <a:xfrm flipH="1">
                <a:off x="6333480" y="3965400"/>
                <a:ext cx="236520" cy="344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46740" y="-3720"/>
                    </a:moveTo>
                    <a:lnTo>
                      <a:pt x="28800" y="72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58"/>
              <p:cNvSpPr/>
              <p:nvPr/>
            </p:nvSpPr>
            <p:spPr>
              <a:xfrm flipV="1">
                <a:off x="6068880" y="4242960"/>
                <a:ext cx="236520" cy="45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Line 60"/>
            <p:cNvSpPr/>
            <p:nvPr/>
          </p:nvSpPr>
          <p:spPr>
            <a:xfrm>
              <a:off x="8172360" y="4724280"/>
              <a:ext cx="14472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62"/>
            <p:cNvSpPr/>
            <p:nvPr/>
          </p:nvSpPr>
          <p:spPr>
            <a:xfrm>
              <a:off x="6519960" y="5475240"/>
              <a:ext cx="573120" cy="25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8257" y="-20540"/>
                  </a:moveTo>
                  <a:lnTo>
                    <a:pt x="-2872" y="954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rcRect l="0" t="0" r="22149" b="0"/>
          <a:stretch/>
        </p:blipFill>
        <p:spPr>
          <a:xfrm>
            <a:off x="1835280" y="463680"/>
            <a:ext cx="7308720" cy="63943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767640" y="62064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абочий ст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332000" y="692280"/>
            <a:ext cx="79200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03280" y="1197000"/>
            <a:ext cx="57636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476360" y="1557360"/>
            <a:ext cx="576360" cy="217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-252360" y="907920"/>
            <a:ext cx="197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Знач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3851280" y="1557360"/>
            <a:ext cx="79200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3564000" y="2133720"/>
            <a:ext cx="1008000" cy="144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56000" y="177336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Ярлы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6587640" y="4868640"/>
            <a:ext cx="86364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08720" y="4869000"/>
            <a:ext cx="18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к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547640" y="5734080"/>
            <a:ext cx="136872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4724280"/>
            <a:ext cx="183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Панель зада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19280" y="6237360"/>
            <a:ext cx="57636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5950080"/>
            <a:ext cx="183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Главное мен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3780000" y="836640"/>
            <a:ext cx="792000" cy="100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76360" y="2349360"/>
            <a:ext cx="576360" cy="217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2060640"/>
            <a:ext cx="161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Пап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87280" y="4076640"/>
            <a:ext cx="863640" cy="136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573360"/>
            <a:ext cx="161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Фай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3141720"/>
            <a:ext cx="2797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Стандар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892600" y="1828440"/>
            <a:ext cx="917280" cy="167940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95640" y="1125360"/>
            <a:ext cx="2195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Блокн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822400" y="3279600"/>
            <a:ext cx="1905120" cy="30024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346640" y="2365200"/>
            <a:ext cx="987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a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22400" y="3579840"/>
            <a:ext cx="304920" cy="183204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97360" y="2971800"/>
            <a:ext cx="2943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Калькуля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654360" y="3732120"/>
            <a:ext cx="4727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Провод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892600" y="3579840"/>
            <a:ext cx="457200" cy="84276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27320" y="5183280"/>
            <a:ext cx="5477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Программа звуко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49600" y="5794200"/>
            <a:ext cx="6858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Программы обслуживания дис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130480" y="3579840"/>
            <a:ext cx="691920" cy="213516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892600" y="2668320"/>
            <a:ext cx="1298520" cy="91116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49800" y="4422600"/>
            <a:ext cx="5492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WordP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92600" y="3579840"/>
            <a:ext cx="615600" cy="38088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500"/>
                            </p:stCondLst>
                            <p:childTnLst>
                              <p:par>
                                <p:cTn id="9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500"/>
                            </p:stCondLst>
                            <p:childTnLst>
                              <p:par>
                                <p:cTn id="9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278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Спасибо за внимание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0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441360" y="1969920"/>
            <a:ext cx="1143000" cy="1063800"/>
            <a:chOff x="441360" y="1969920"/>
            <a:chExt cx="1143000" cy="1063800"/>
          </a:xfrm>
        </p:grpSpPr>
        <p:grpSp>
          <p:nvGrpSpPr>
            <p:cNvPr id="115" name=""/>
            <p:cNvGrpSpPr/>
            <p:nvPr/>
          </p:nvGrpSpPr>
          <p:grpSpPr>
            <a:xfrm>
              <a:off x="441360" y="1969920"/>
              <a:ext cx="1143000" cy="1063800"/>
              <a:chOff x="441360" y="1969920"/>
              <a:chExt cx="1143000" cy="1063800"/>
            </a:xfrm>
          </p:grpSpPr>
          <p:sp>
            <p:nvSpPr>
              <p:cNvPr id="116" name=""/>
              <p:cNvSpPr/>
              <p:nvPr/>
            </p:nvSpPr>
            <p:spPr>
              <a:xfrm>
                <a:off x="441360" y="1969920"/>
                <a:ext cx="1143000" cy="10638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17680" y="2045880"/>
                <a:ext cx="990360" cy="9115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93640" y="2121840"/>
                <a:ext cx="838440" cy="75924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69960" y="2197800"/>
                <a:ext cx="685800" cy="60768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46280" y="2273760"/>
                <a:ext cx="533160" cy="45576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745920" y="2045880"/>
                <a:ext cx="533160" cy="9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3640" y="2197800"/>
                <a:ext cx="838440" cy="68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517680" y="2425320"/>
                <a:ext cx="990360" cy="22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898560" y="2045880"/>
              <a:ext cx="228600" cy="9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Хранение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8040" y="1969920"/>
            <a:ext cx="761040" cy="14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39880" y="1662120"/>
            <a:ext cx="167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Фай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08240" y="1741320"/>
            <a:ext cx="5870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поименованное место на дис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6000" y="1209600"/>
            <a:ext cx="1825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кц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133640" y="1587600"/>
            <a:ext cx="380880" cy="30312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19640" y="2352600"/>
            <a:ext cx="2431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я файл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6880" y="3112920"/>
            <a:ext cx="2390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7680" y="3645000"/>
            <a:ext cx="2901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 более 8 символов (лат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05440" y="3112920"/>
            <a:ext cx="2743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05440" y="3645000"/>
            <a:ext cx="2743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 более 250 симв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13560" y="3112920"/>
            <a:ext cx="252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не применя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37240" y="3873600"/>
            <a:ext cx="244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/ : * ? “ &gt; &lt; 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19640" y="4710240"/>
            <a:ext cx="4416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ип файла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симв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2240" y="5245200"/>
            <a:ext cx="997200" cy="12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b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39880" y="5091120"/>
            <a:ext cx="460440" cy="1450800"/>
          </a:xfrm>
          <a:custGeom>
            <a:avLst/>
            <a:gdLst>
              <a:gd name="textAreaLeft" fmla="*/ 0 w 460440"/>
              <a:gd name="textAreaRight" fmla="*/ 166320 w 460440"/>
              <a:gd name="textAreaTop" fmla="*/ 37800 h 1450800"/>
              <a:gd name="textAreaBottom" fmla="*/ 1413000 h 145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276640" y="5548320"/>
            <a:ext cx="606240" cy="533160"/>
            <a:chOff x="2276640" y="5548320"/>
            <a:chExt cx="606240" cy="533160"/>
          </a:xfrm>
        </p:grpSpPr>
        <p:sp>
          <p:nvSpPr>
            <p:cNvPr id="142" name=""/>
            <p:cNvSpPr/>
            <p:nvPr/>
          </p:nvSpPr>
          <p:spPr>
            <a:xfrm>
              <a:off x="2276640" y="5548320"/>
              <a:ext cx="606240" cy="533160"/>
            </a:xfrm>
            <a:prstGeom prst="rect">
              <a:avLst/>
            </a:prstGeom>
            <a:solidFill>
              <a:srgbClr val="000000"/>
            </a:solidFill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52240" y="5624280"/>
              <a:ext cx="45468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263760" y="5398920"/>
            <a:ext cx="11430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84560" y="5931000"/>
            <a:ext cx="11430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63760" y="6462720"/>
            <a:ext cx="11430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x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51240" y="5245200"/>
            <a:ext cx="2216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айл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1400" y="5781600"/>
            <a:ext cx="4337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айл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Explo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05440" y="6313320"/>
            <a:ext cx="2587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айл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75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1066680"/>
            <a:ext cx="4032360" cy="328968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апка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– поименованное место на диске, в котором хранится информация о вложенных файлах: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имя, тип, дата создания, объе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2560" y="350640"/>
            <a:ext cx="777888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Путь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27160" y="1293480"/>
            <a:ext cx="38098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ена диск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606600" cy="4604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108400" y="2897280"/>
            <a:ext cx="304920" cy="1446120"/>
          </a:xfrm>
          <a:custGeom>
            <a:avLst/>
            <a:gdLst>
              <a:gd name="textAreaLeft" fmla="*/ 0 w 304920"/>
              <a:gd name="textAreaRight" fmla="*/ 110160 w 304920"/>
              <a:gd name="textAreaTop" fmla="*/ 37440 h 1446120"/>
              <a:gd name="textAreaBottom" fmla="*/ 1408680 h 14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4419720"/>
            <a:ext cx="586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лное 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6600" y="5183280"/>
            <a:ext cx="8076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:\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и документы\Иванов\Курсовая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6400" y="5865840"/>
            <a:ext cx="8071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\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ументы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\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т по физике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1754280"/>
            <a:ext cx="3809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5960" indent="-345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А: -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loppy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исковод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22860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5960" indent="-345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: -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loppy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исковод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3280" y="2781360"/>
            <a:ext cx="6890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5960" indent="-345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59480" y="3429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5960" indent="-345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жесткий дис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75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7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2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7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7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708360" y="2565360"/>
            <a:ext cx="3436920" cy="2578320"/>
            <a:chOff x="3708360" y="2565360"/>
            <a:chExt cx="3436920" cy="257832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3708360" y="2565360"/>
              <a:ext cx="3436920" cy="257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 txBox="1"/>
            <p:nvPr/>
          </p:nvSpPr>
          <p:spPr>
            <a:xfrm>
              <a:off x="4067280" y="3213000"/>
              <a:ext cx="287316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Window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66848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96296E-006 L 0.12709 -0.28264 E">
                                      <p:cBhvr>
                                        <p:cTn id="195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50920" y="69228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Операционная систе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8000" cy="68994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3203640" y="2997360"/>
            <a:ext cx="3166920" cy="57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indows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249640"/>
            <a:ext cx="914400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это</a:t>
            </a:r>
            <a:r>
              <a:rPr b="0" lang="en-US" sz="4800" spc="-1" strike="noStrike">
                <a:solidFill>
                  <a:srgbClr val="339966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ервая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графическая, </a:t>
            </a:r>
            <a:r>
              <a:rPr b="1" lang="ru-RU" sz="4800" spc="-1" strike="noStrike">
                <a:solidFill>
                  <a:srgbClr val="00007d"/>
                </a:solidFill>
                <a:latin typeface="Times New Roman"/>
              </a:rPr>
              <a:t>многозадачная,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9900cc"/>
                </a:solidFill>
                <a:latin typeface="Times New Roman"/>
              </a:rPr>
              <a:t>оконная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операционная система с удобным интерфейс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Год создания – 1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995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956720" y="33336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260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006600"/>
                </a:solidFill>
                <a:uFillTx/>
                <a:latin typeface="Arial"/>
              </a:rPr>
              <a:t>Операционная система </a:t>
            </a:r>
            <a:r>
              <a:rPr b="1" lang="en-US" sz="7200" spc="-1" strike="noStrike" u="sng">
                <a:solidFill>
                  <a:srgbClr val="006600"/>
                </a:solidFill>
                <a:uFillTx/>
                <a:latin typeface="Arial"/>
              </a:rPr>
              <a:t>Windows</a:t>
            </a:r>
            <a:r>
              <a:rPr b="0" lang="en-US" sz="7200" spc="-1" strike="noStrike">
                <a:solidFill>
                  <a:srgbClr val="006600"/>
                </a:solidFill>
                <a:latin typeface="Arial"/>
              </a:rPr>
              <a:t> 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cc"/>
                </a:solidFill>
                <a:latin typeface="Arial"/>
              </a:rPr>
              <a:t>ГРАФИЧЕСК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4356000" cy="3359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515772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Множество рисунков и анима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7:34:23Z</dcterms:created>
  <dc:creator>user</dc:creator>
  <dc:description/>
  <dc:language>en-US</dc:language>
  <cp:lastModifiedBy>User</cp:lastModifiedBy>
  <dcterms:modified xsi:type="dcterms:W3CDTF">2011-09-08T06:07:59Z</dcterms:modified>
  <cp:revision>40</cp:revision>
  <dc:subject/>
  <dc:title>Графический интерфейс ОС      Windows</dc:title>
</cp:coreProperties>
</file>